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3.jpeg" ContentType="image/jpe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29.png" ContentType="image/pn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31.png" ContentType="image/png"/>
  <Override PartName="/ppt/media/image17.jpeg" ContentType="image/jpeg"/>
  <Override PartName="/ppt/media/image3.png" ContentType="image/png"/>
  <Override PartName="/ppt/media/image25.jpeg" ContentType="image/jpeg"/>
  <Override PartName="/ppt/media/image2.png" ContentType="image/png"/>
  <Override PartName="/ppt/media/image10.jpeg" ContentType="image/jpeg"/>
  <Override PartName="/ppt/media/image30.png" ContentType="image/png"/>
  <Override PartName="/ppt/media/image37.jpeg" ContentType="image/jpeg"/>
  <Override PartName="/ppt/media/image50.jpeg" ContentType="image/jpeg"/>
  <Override PartName="/ppt/media/image12.jpeg" ContentType="image/jpeg"/>
  <Override PartName="/ppt/media/image34.jpeg" ContentType="image/jpeg"/>
  <Override PartName="/ppt/media/image7.jpeg" ContentType="image/jpeg"/>
  <Override PartName="/ppt/media/image36.jpeg" ContentType="image/jpeg"/>
  <Override PartName="/ppt/media/image11.jpeg" ContentType="image/jpeg"/>
  <Override PartName="/ppt/media/image48.png" ContentType="image/png"/>
  <Override PartName="/ppt/media/image9.jpeg" ContentType="image/jpeg"/>
  <Override PartName="/ppt/media/image4.jpeg" ContentType="image/jpeg"/>
  <Override PartName="/ppt/media/image40.png" ContentType="image/png"/>
  <Override PartName="/ppt/media/image43.jpeg" ContentType="image/jpeg"/>
  <Override PartName="/ppt/media/image44.jpeg" ContentType="image/jpeg"/>
  <Override PartName="/ppt/media/image46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9.jpeg" ContentType="image/jpeg"/>
  <Override PartName="/ppt/media/image35.jpeg" ContentType="image/jpeg"/>
  <Override PartName="/ppt/media/image47.png" ContentType="image/png"/>
  <Override PartName="/ppt/media/image45.jpeg" ContentType="image/jpeg"/>
  <Override PartName="/ppt/media/image8.jpeg" ContentType="image/jpeg"/>
  <Override PartName="/ppt/media/image38.png" ContentType="image/png"/>
  <Override PartName="/ppt/media/image39.jpeg" ContentType="image/jpeg"/>
  <Override PartName="/ppt/media/image13.jpeg" ContentType="image/jpeg"/>
  <Override PartName="/ppt/media/image28.jpeg" ContentType="image/jpeg"/>
  <Override PartName="/ppt/media/image51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710363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623F5-E263-4359-B9FD-D6ACD52837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25968-0EFA-4915-A10B-1E94440B03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F6250-494C-46FD-9924-B1EEA2165F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C7EAFC-CDCF-4D5D-99C9-65C42951E2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DA217-01D0-4BBE-9E9D-B43A3CE705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4792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560" y="1798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4928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4792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560" y="4192200"/>
            <a:ext cx="266508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2D5BC-54BE-4B8D-A259-78E426C8B9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26E74-0532-426B-81C7-D43D31B159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A9026-DD68-4D05-AAD8-0E1324BEB5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49280" y="1168560"/>
            <a:ext cx="8277120" cy="18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A7ECD-1BD6-497E-97AC-3A57300764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21EB-0591-4677-B665-2598B3CEA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90800" y="4192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90142C-AE9B-4B40-8A60-E71BBCE30F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90800" y="1798200"/>
            <a:ext cx="403920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49280" y="4192200"/>
            <a:ext cx="8277120" cy="21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93D5E-0256-4346-84AD-5187DEE7D5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sldNum" idx="1"/>
          </p:nvPr>
        </p:nvSpPr>
        <p:spPr>
          <a:xfrm>
            <a:off x="5936760" y="6567120"/>
            <a:ext cx="809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Seite  </a:t>
            </a:r>
            <a:fld id="{B49F9E4C-DCA0-40BF-971F-F71EB6E6F25E}" type="slidenum">
              <a:rPr b="0" lang="en-US" sz="10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3880" indent="-177840">
              <a:spcBef>
                <a:spcPts val="1001"/>
              </a:spcBef>
              <a:buClr>
                <a:srgbClr val="7caad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51000" indent="-177840">
              <a:spcBef>
                <a:spcPts val="1001"/>
              </a:spcBef>
              <a:buClr>
                <a:srgbClr val="5f5f5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9000">
              <a:spcBef>
                <a:spcPts val="1001"/>
              </a:spcBef>
              <a:buClr>
                <a:srgbClr val="479c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900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448920" y="6567120"/>
            <a:ext cx="539892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6818400" y="333360"/>
            <a:ext cx="1809720" cy="60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561520" y="6597720"/>
            <a:ext cx="5824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7696080" y="6597720"/>
            <a:ext cx="62568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31000" y="6597720"/>
            <a:ext cx="627120" cy="260280"/>
          </a:xfrm>
          <a:prstGeom prst="rect">
            <a:avLst/>
          </a:prstGeom>
          <a:solidFill>
            <a:srgbClr val="63d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9280" y="2158560"/>
            <a:ext cx="647856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448920" y="6567120"/>
            <a:ext cx="5327640" cy="2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f5f5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image" Target="../media/image43.jpe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jpe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dr-wissen.de/wiki/ddr.pl" TargetMode="External"/><Relationship Id="rId2" Type="http://schemas.openxmlformats.org/officeDocument/2006/relationships/hyperlink" Target="http://www.ddr-suche.de/" TargetMode="External"/><Relationship Id="rId3" Type="http://schemas.openxmlformats.org/officeDocument/2006/relationships/hyperlink" Target="http://www.ddr-alltagskultur.de/" TargetMode="External"/><Relationship Id="rId4" Type="http://schemas.openxmlformats.org/officeDocument/2006/relationships/hyperlink" Target="http://www.ddr-zeitzeugen.de/" TargetMode="External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de.wikipedia.org/wiki/Bild:GDR_shirts.jpg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jpeg"/><Relationship Id="rId6" Type="http://schemas.openxmlformats.org/officeDocument/2006/relationships/image" Target="../media/image15.jpeg"/><Relationship Id="rId7" Type="http://schemas.openxmlformats.org/officeDocument/2006/relationships/image" Target="../media/image16.jpeg"/><Relationship Id="rId8" Type="http://schemas.openxmlformats.org/officeDocument/2006/relationships/image" Target="../media/image17.jpe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743200" y="2057400"/>
            <a:ext cx="0" cy="434340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29000" y="2057400"/>
            <a:ext cx="43434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oethe-Institut Manche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Wolfgang Wink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eminar for teachers of Ger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ool of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Queen‘s University Belf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11.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lytechnischer Unterricht = mehr praktisch als akadem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inführung in die sozialistische Produktion (ES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Technisches Zeich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duktive Arbeit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rnteeinsatz (Helfen bei der Ernt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ESP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1712880" cy="2438640"/>
          </a:xfrm>
          <a:prstGeom prst="rect">
            <a:avLst/>
          </a:prstGeom>
          <a:ln w="0">
            <a:noFill/>
          </a:ln>
        </p:spPr>
      </p:pic>
      <p:pic>
        <p:nvPicPr>
          <p:cNvPr id="139" name="Ernteeinsatz" descr=""/>
          <p:cNvPicPr/>
          <p:nvPr/>
        </p:nvPicPr>
        <p:blipFill>
          <a:blip r:embed="rId2"/>
          <a:stretch/>
        </p:blipFill>
        <p:spPr>
          <a:xfrm>
            <a:off x="5079960" y="3352680"/>
            <a:ext cx="3683160" cy="2438640"/>
          </a:xfrm>
          <a:prstGeom prst="rect">
            <a:avLst/>
          </a:prstGeom>
          <a:ln w="0">
            <a:noFill/>
          </a:ln>
        </p:spPr>
      </p:pic>
      <p:pic>
        <p:nvPicPr>
          <p:cNvPr id="140" name="techn%20Zeichnen" descr=""/>
          <p:cNvPicPr/>
          <p:nvPr/>
        </p:nvPicPr>
        <p:blipFill>
          <a:blip r:embed="rId3"/>
          <a:stretch/>
        </p:blipFill>
        <p:spPr>
          <a:xfrm>
            <a:off x="2971800" y="3352680"/>
            <a:ext cx="183024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 –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weiterte Oberschule (EOS)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Gymnasium in B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uch akademische Fä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. Fremdsprache, meist Engl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2 – 3 Wochen im Jahr in der Indust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bitur: ca. 10 – 15 % eines Jahrga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ationale Volksarmee (NVA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Män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ndestens 18 Monate, aber wenn man zur Universität gehe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ollte, musste man „freiwillig“ 3 Jahre ge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18/21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chtig für einen Studienplatz war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ute No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amiliärer Hintergrund (Kinder von Arbeitern und Bauer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atten bessere Chance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olitisch: ein guter Kommunist se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NVA" descr=""/>
          <p:cNvPicPr/>
          <p:nvPr/>
        </p:nvPicPr>
        <p:blipFill>
          <a:blip r:embed="rId1"/>
          <a:stretch/>
        </p:blipFill>
        <p:spPr>
          <a:xfrm>
            <a:off x="6477120" y="3962520"/>
            <a:ext cx="2209680" cy="12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694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ch die Jugendlichen in der DDR gingen in Diskos und Club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ein großer Teil ihrer Freizeit war vom Staat organis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Die Kinder sollten gute Kommunisten wer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ür dieses Ziel gab es die folgenden Jugendorganisatione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– 9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ngpioni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– 13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älmann-Pionie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hälmann: Kommunist, von Nazis ermorde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jungpioniere%201" descr=""/>
          <p:cNvPicPr/>
          <p:nvPr/>
        </p:nvPicPr>
        <p:blipFill>
          <a:blip r:embed="rId1"/>
          <a:stretch/>
        </p:blipFill>
        <p:spPr>
          <a:xfrm>
            <a:off x="609480" y="3809880"/>
            <a:ext cx="1481400" cy="1981440"/>
          </a:xfrm>
          <a:prstGeom prst="rect">
            <a:avLst/>
          </a:prstGeom>
          <a:ln w="0">
            <a:noFill/>
          </a:ln>
        </p:spPr>
      </p:pic>
      <p:pic>
        <p:nvPicPr>
          <p:cNvPr id="149" name="jungpioniere2" descr=""/>
          <p:cNvPicPr/>
          <p:nvPr/>
        </p:nvPicPr>
        <p:blipFill>
          <a:blip r:embed="rId2"/>
          <a:stretch/>
        </p:blipFill>
        <p:spPr>
          <a:xfrm>
            <a:off x="2325600" y="3809880"/>
            <a:ext cx="1306440" cy="1979640"/>
          </a:xfrm>
          <a:prstGeom prst="rect">
            <a:avLst/>
          </a:prstGeom>
          <a:ln w="0">
            <a:noFill/>
          </a:ln>
        </p:spPr>
      </p:pic>
      <p:pic>
        <p:nvPicPr>
          <p:cNvPr id="150" name="tpioniere" descr=""/>
          <p:cNvPicPr/>
          <p:nvPr/>
        </p:nvPicPr>
        <p:blipFill>
          <a:blip r:embed="rId3"/>
          <a:stretch/>
        </p:blipFill>
        <p:spPr>
          <a:xfrm>
            <a:off x="3886200" y="3809880"/>
            <a:ext cx="1332000" cy="1984320"/>
          </a:xfrm>
          <a:prstGeom prst="rect">
            <a:avLst/>
          </a:prstGeom>
          <a:ln w="0">
            <a:noFill/>
          </a:ln>
        </p:spPr>
      </p:pic>
      <p:pic>
        <p:nvPicPr>
          <p:cNvPr id="151" name="tpioniere2" descr=""/>
          <p:cNvPicPr/>
          <p:nvPr/>
        </p:nvPicPr>
        <p:blipFill>
          <a:blip r:embed="rId4"/>
          <a:stretch/>
        </p:blipFill>
        <p:spPr>
          <a:xfrm>
            <a:off x="5410080" y="3809880"/>
            <a:ext cx="3372120" cy="19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tto: Seid bereit, immer bereit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e Gebote der Pionie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r Jungpioniere ...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DD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unsere Elt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eben den Fried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lten Freundschaft mit den Kindern der UdS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 allen Länd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rnen fleißig, sind ordentlich und disziplinie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chten alle arbeitenden Menschen und helfen überall tüchtig mi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d gute Freunde und helfen eina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ngen, tanzen und spielen ger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eiben Sport und halten unseren Körper sauber und gesu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gen mit Stolz unser blaues Halstu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Kopie%20von%20tpioniere3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287440" cy="3343320"/>
          </a:xfrm>
          <a:prstGeom prst="rect">
            <a:avLst/>
          </a:prstGeom>
          <a:ln w="0">
            <a:noFill/>
          </a:ln>
        </p:spPr>
      </p:pic>
      <p:pic>
        <p:nvPicPr>
          <p:cNvPr id="156" name="deutsch-sowj%20Freundschaft" descr=""/>
          <p:cNvPicPr/>
          <p:nvPr/>
        </p:nvPicPr>
        <p:blipFill>
          <a:blip r:embed="rId2"/>
          <a:stretch/>
        </p:blipFill>
        <p:spPr>
          <a:xfrm>
            <a:off x="4191120" y="1447920"/>
            <a:ext cx="2019240" cy="19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st alles, was die Pioniere machen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siert in der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Lehrern und El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 Arbeitern aus den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urn- und Sportfes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häuser (Kindertheater, Lese-, Fernseh-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elzimm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74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onierferienlager (Campin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hu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tgliedschaft „freiwillig“: 99% waren Mitgli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Medaillen für „gute“ Arb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Ferienlager" descr=""/>
          <p:cNvPicPr/>
          <p:nvPr/>
        </p:nvPicPr>
        <p:blipFill>
          <a:blip r:embed="rId1"/>
          <a:stretch/>
        </p:blipFill>
        <p:spPr>
          <a:xfrm>
            <a:off x="4648320" y="982800"/>
            <a:ext cx="3352680" cy="2228760"/>
          </a:xfrm>
          <a:prstGeom prst="rect">
            <a:avLst/>
          </a:prstGeom>
          <a:ln w="0">
            <a:noFill/>
          </a:ln>
        </p:spPr>
      </p:pic>
      <p:pic>
        <p:nvPicPr>
          <p:cNvPr id="161" name="orden1" descr=""/>
          <p:cNvPicPr/>
          <p:nvPr/>
        </p:nvPicPr>
        <p:blipFill>
          <a:blip r:embed="rId2"/>
          <a:stretch/>
        </p:blipFill>
        <p:spPr>
          <a:xfrm>
            <a:off x="6172200" y="3505320"/>
            <a:ext cx="185436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23880" y="5181480"/>
            <a:ext cx="87631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fdj" descr=""/>
          <p:cNvPicPr/>
          <p:nvPr/>
        </p:nvPicPr>
        <p:blipFill>
          <a:blip r:embed="rId1"/>
          <a:stretch/>
        </p:blipFill>
        <p:spPr>
          <a:xfrm>
            <a:off x="2438280" y="4267080"/>
            <a:ext cx="1446480" cy="1766880"/>
          </a:xfrm>
          <a:prstGeom prst="rect">
            <a:avLst/>
          </a:prstGeom>
          <a:ln w="0">
            <a:noFill/>
          </a:ln>
        </p:spPr>
      </p:pic>
      <p:pic>
        <p:nvPicPr>
          <p:cNvPr id="166" name="jugendweihe3" descr=""/>
          <p:cNvPicPr/>
          <p:nvPr/>
        </p:nvPicPr>
        <p:blipFill>
          <a:blip r:embed="rId2"/>
          <a:stretch/>
        </p:blipFill>
        <p:spPr>
          <a:xfrm>
            <a:off x="6705720" y="1523880"/>
            <a:ext cx="2336760" cy="1825920"/>
          </a:xfrm>
          <a:prstGeom prst="rect">
            <a:avLst/>
          </a:prstGeom>
          <a:ln w="0">
            <a:noFill/>
          </a:ln>
        </p:spPr>
      </p:pic>
      <p:pic>
        <p:nvPicPr>
          <p:cNvPr id="167" name="FDJ%20Blauhemd" descr=""/>
          <p:cNvPicPr/>
          <p:nvPr/>
        </p:nvPicPr>
        <p:blipFill>
          <a:blip r:embed="rId3"/>
          <a:stretch/>
        </p:blipFill>
        <p:spPr>
          <a:xfrm>
            <a:off x="4419720" y="4267080"/>
            <a:ext cx="2357280" cy="176868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6477120" y="5638680"/>
            <a:ext cx="8076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990720"/>
            <a:ext cx="830592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Jah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weihe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rsatz für religiöse Feiern wie Konfirmation/Kommun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löbni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Kommunismus, Arbeiterklasse,  DD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für die Freundschaft mit der UdSS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ier war freiwillig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er fast 100% haben es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3657600"/>
            <a:ext cx="80773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 – max. 25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reie Deutsche Jugend (FD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Mitgliedschaft war „freiwillig“, aber ohne Mitgliedschaft oft kein Platz in 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organisierte Jugendhotels und Jugendclubs, besonders für Gewinner von Preisen = große Motivation, besonders politisch „gut“ zu sein, dann sogar Campingurlaub in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ngeclubs (meistens politische Lieder) waren unpopulär - Indoktr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Kommunistische Ideologie TOTAL: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chule, Freizeit, Fabri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Freizeit war also sehr politisch orientie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Jugendlichen hatten aber nie Langewe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lle hatten einen Job = keine Jugendarbeitslosigke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fdj_pin_gold" descr=""/>
          <p:cNvPicPr/>
          <p:nvPr/>
        </p:nvPicPr>
        <p:blipFill>
          <a:blip r:embed="rId1"/>
          <a:stretch/>
        </p:blipFill>
        <p:spPr>
          <a:xfrm>
            <a:off x="6116760" y="3429000"/>
            <a:ext cx="246852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280" y="457200"/>
            <a:ext cx="731520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Jugend erwach, erhebe Dich jetz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grausame Zeit hat ein E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ie Sonne schickt wie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Strahlen hernieder vom blauen Himmelsgeze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ie Lerche schickt frohe Lieder ins Tal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das Bächlein ermuntert uns 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Und der Bauer bestellt wieder Acker und Feld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ald blüht es allübera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8305920" y="12193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33520" y="12193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DJ-Lied: Bau auf, bau au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überall der Hammer ertön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e werkende Hand zu uns spric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pack 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ich Dir selber die Bah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ür Frieden, Freiheit und Re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Kein Zwang und kein Drill, der eigene Will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rfülle dein Leben fort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icke frei in das Lich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s dir niemals gebrich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utsche Jugend steh deinen Mann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Bau auf, bau auf, bau auf, bau au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reie Deutsche Jugend, bau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Für eine bessere Zukun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c6736"/>
                </a:solidFill>
                <a:latin typeface="Arial"/>
              </a:rPr>
              <a:t>Richten wir die Heimat auf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64160" y="179820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ie DDR lebt wei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uf 79 Quadratmetern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hrlich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685800" y="1066680"/>
          <a:ext cx="3243240" cy="458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066680"/>
                    <a:ext cx="3243240" cy="458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sreisen in der DDR waren sehr billi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Ferienheime für Familien im ganzen 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eblingsreiseziele: Ostsee und Thüringer Wa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anisiert vom Freien Deutschen Gewerkschaftsbund (FDG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slandsreisen: UdSSR, Tschechoslowakei, Polen, Unga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otische Reiseziele: Vietnam, Ku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rlaub in westlichen Ländern nicht möglich – Grund für Unzufrieden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Thüringer%20Wald" descr=""/>
          <p:cNvPicPr/>
          <p:nvPr/>
        </p:nvPicPr>
        <p:blipFill>
          <a:blip r:embed="rId1"/>
          <a:stretch/>
        </p:blipFill>
        <p:spPr>
          <a:xfrm>
            <a:off x="4419720" y="3962520"/>
            <a:ext cx="2465280" cy="2465280"/>
          </a:xfrm>
          <a:prstGeom prst="rect">
            <a:avLst/>
          </a:prstGeom>
          <a:ln w="0">
            <a:noFill/>
          </a:ln>
        </p:spPr>
      </p:pic>
      <p:pic>
        <p:nvPicPr>
          <p:cNvPr id="190" name="Ostsee2" descr=""/>
          <p:cNvPicPr/>
          <p:nvPr/>
        </p:nvPicPr>
        <p:blipFill>
          <a:blip r:embed="rId2"/>
          <a:stretch/>
        </p:blipFill>
        <p:spPr>
          <a:xfrm>
            <a:off x="762120" y="3962520"/>
            <a:ext cx="3124080" cy="24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Geheimdienst in der DDR war das Ministerium für Staatssicherheit (MfS) – STASI. Hier waren die Spione für Inland und Aus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91 000 offizielle Mitarbeiter und ca. 100 000 inoffizielle Mitarbeiter (I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hne Alte und Kinder: ca. 50 Personen pro Stasi-Mitarb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. 1 500 Stasi-Leute im Ausland = „Kundschafter des Friedens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Alle sollten sich beobachtet und kontrolliert fühl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el: Kritik gegen den Staat und Opposition stopp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stasi2" descr=""/>
          <p:cNvPicPr/>
          <p:nvPr/>
        </p:nvPicPr>
        <p:blipFill>
          <a:blip r:embed="rId1"/>
          <a:stretch/>
        </p:blipFill>
        <p:spPr>
          <a:xfrm>
            <a:off x="685800" y="388620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195" name="Stasi3" descr=""/>
          <p:cNvPicPr/>
          <p:nvPr/>
        </p:nvPicPr>
        <p:blipFill>
          <a:blip r:embed="rId2"/>
          <a:stretch/>
        </p:blipFill>
        <p:spPr>
          <a:xfrm>
            <a:off x="3581280" y="3886200"/>
            <a:ext cx="2786040" cy="2058840"/>
          </a:xfrm>
          <a:prstGeom prst="rect">
            <a:avLst/>
          </a:prstGeom>
          <a:ln w="0">
            <a:noFill/>
          </a:ln>
        </p:spPr>
      </p:pic>
      <p:pic>
        <p:nvPicPr>
          <p:cNvPr id="196" name="stasi4" descr=""/>
          <p:cNvPicPr/>
          <p:nvPr/>
        </p:nvPicPr>
        <p:blipFill>
          <a:blip r:embed="rId3"/>
          <a:stretch/>
        </p:blipFill>
        <p:spPr>
          <a:xfrm>
            <a:off x="6477120" y="3886200"/>
            <a:ext cx="15652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49280" y="1066680"/>
            <a:ext cx="8277120" cy="531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offiziellen Mitarbeiter waren oft Polizisten, Beamte, Armeeoffizi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ie inoffiziellen Mitarbeiter (IM) waren oft Arbeitskollegen, Freunde, Verwandte, sogar Ehepartn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eispiel:  Vera Wollenberger war in der Opposition und hat herausgefunden, dass ihr Ehemann sie 10 Jahre lang ausspioniert h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vera%20wollenberger" descr=""/>
          <p:cNvPicPr/>
          <p:nvPr/>
        </p:nvPicPr>
        <p:blipFill>
          <a:blip r:embed="rId1"/>
          <a:stretch/>
        </p:blipFill>
        <p:spPr>
          <a:xfrm>
            <a:off x="762120" y="2895480"/>
            <a:ext cx="1181160" cy="15242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57200" y="4572000"/>
            <a:ext cx="815328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Neuer Film über die Stasi: Das Leben der ander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leben%20der%20anderen" descr=""/>
          <p:cNvPicPr/>
          <p:nvPr/>
        </p:nvPicPr>
        <p:blipFill>
          <a:blip r:embed="rId2"/>
          <a:stretch/>
        </p:blipFill>
        <p:spPr>
          <a:xfrm>
            <a:off x="6172200" y="4573440"/>
            <a:ext cx="167652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49280" y="1143000"/>
            <a:ext cx="406224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POSI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ter Service für Kinder: Kinderkrippen, Kindergärten, Schulh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ütter konnten ohne Probleme arbeit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 Freizeitorganisation für Jugendliche: keine Langeweile, kein Herumhä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Ferienhe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Lebensmit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illige Wohnun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63db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Arbeitslosigk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64160" y="1142640"/>
            <a:ext cx="40622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NEGATI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ben politisch-ideologisch organisie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Freiheit für andere politische Ide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 für Relig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e, wenn nicht aktiv bei Pionieren, FDJ: vielleicht kein Platz auf EOS oder Universitä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ure Luxusgüter (Autos, Fernseher, Videorekorder), kaum Telef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strie unmodern, unprodukt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ine Reisefreih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title"/>
          </p:nvPr>
        </p:nvSpPr>
        <p:spPr>
          <a:xfrm>
            <a:off x="485280" y="457200"/>
            <a:ext cx="8277480" cy="51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latte" descr=""/>
          <p:cNvPicPr/>
          <p:nvPr/>
        </p:nvPicPr>
        <p:blipFill>
          <a:blip r:embed="rId1"/>
          <a:stretch/>
        </p:blipFill>
        <p:spPr>
          <a:xfrm>
            <a:off x="3200400" y="3962520"/>
            <a:ext cx="125748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Mauer" descr=""/>
          <p:cNvPicPr/>
          <p:nvPr/>
        </p:nvPicPr>
        <p:blipFill>
          <a:blip r:embed="rId1"/>
          <a:stretch/>
        </p:blipFill>
        <p:spPr>
          <a:xfrm>
            <a:off x="1371600" y="1219320"/>
            <a:ext cx="6400800" cy="49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4446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bleme seit dem Fall der Mauer 1989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ohe Arbeitslosigkeit, auch bei Jugendlichen (ca. 1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keine Feizeitorganisation wie frü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viele junge und gut qualifizierte Menschen gehen nach Westdeutsch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 manchen Regionen leben fast nur noch alte Mensch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völkerungszahl: heute ca. 2 Millionen weniger als 198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 </a:t>
            </a: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RESULTAT: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Lucida Handwriting"/>
              </a:rPr>
              <a:t>OSTALGIE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 – „früher war alles bess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Bundesländer" descr=""/>
          <p:cNvPicPr/>
          <p:nvPr/>
        </p:nvPicPr>
        <p:blipFill>
          <a:blip r:embed="rId1"/>
          <a:stretch/>
        </p:blipFill>
        <p:spPr>
          <a:xfrm>
            <a:off x="6615000" y="3200400"/>
            <a:ext cx="2529000" cy="33242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610480" y="358128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7696080" y="3657600"/>
            <a:ext cx="1067040" cy="1447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7467120" y="3733920"/>
            <a:ext cx="114300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4572000"/>
            <a:ext cx="228600" cy="228600"/>
          </a:xfrm>
          <a:prstGeom prst="flowChartConnector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5638680" y="4724280"/>
            <a:ext cx="137160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495680" y="502920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upper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STALGIE aus gesundheitlichen Gründe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„gute“ Kommunistin Frau Kerner ha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einen Herzinfarkt und fällt ins Ko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wacht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 auf. Die DDR hat keine Mauer und keinen Eisernen Vorhang meh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Doktor warnt ihren Sohn, jeder Schock kann tödlich für sie se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r Sohn macht die Wohnung wieder so zurecht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ihr selbst gemachte Nachricht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e Mutter bekommt Essen wi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e lange hält die Illus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filmillusion3" descr=""/>
          <p:cNvPicPr/>
          <p:nvPr/>
        </p:nvPicPr>
        <p:blipFill>
          <a:blip r:embed="rId1"/>
          <a:stretch/>
        </p:blipFill>
        <p:spPr>
          <a:xfrm>
            <a:off x="762120" y="4572000"/>
            <a:ext cx="2361960" cy="1712880"/>
          </a:xfrm>
          <a:prstGeom prst="rect">
            <a:avLst/>
          </a:prstGeom>
          <a:ln w="0">
            <a:noFill/>
          </a:ln>
        </p:spPr>
      </p:pic>
      <p:pic>
        <p:nvPicPr>
          <p:cNvPr id="226" name="filmillusion2" descr=""/>
          <p:cNvPicPr/>
          <p:nvPr/>
        </p:nvPicPr>
        <p:blipFill>
          <a:blip r:embed="rId2"/>
          <a:stretch/>
        </p:blipFill>
        <p:spPr>
          <a:xfrm>
            <a:off x="6019920" y="4572000"/>
            <a:ext cx="2374920" cy="1714680"/>
          </a:xfrm>
          <a:prstGeom prst="rect">
            <a:avLst/>
          </a:prstGeom>
          <a:ln w="0">
            <a:noFill/>
          </a:ln>
        </p:spPr>
      </p:pic>
      <p:pic>
        <p:nvPicPr>
          <p:cNvPr id="227" name="filmillusion" descr=""/>
          <p:cNvPicPr/>
          <p:nvPr/>
        </p:nvPicPr>
        <p:blipFill>
          <a:blip r:embed="rId3"/>
          <a:stretch/>
        </p:blipFill>
        <p:spPr>
          <a:xfrm>
            <a:off x="3271680" y="4572000"/>
            <a:ext cx="25956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49280" y="1168560"/>
            <a:ext cx="8277120" cy="3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iterführende Materialie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49280" y="1798200"/>
            <a:ext cx="82771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1"/>
              </a:rPr>
              <a:t>http://www.ddr-wissen.de/wiki/ddr.p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2"/>
              </a:rPr>
              <a:t>http://www.ddr-suche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3"/>
              </a:rPr>
              <a:t>http://www.ddr-alltagskultur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 u="sng">
                <a:solidFill>
                  <a:srgbClr val="fc6736"/>
                </a:solidFill>
                <a:uFillTx/>
                <a:latin typeface="Arial"/>
                <a:hlinkClick r:id="rId4"/>
              </a:rPr>
              <a:t>http://www.ddr-zeitzeugen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ddr-im-www.de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ttp://www.irishfilm.ie/downloads/ifi_gblenin_sg.pd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49280" y="1066320"/>
            <a:ext cx="869472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wurde 2003 gemach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spielt aber im Jahre 198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histor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war ein wichtiges Jahr in der deutschen Politik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politischer 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erzählt das Familienleben zu dieser Ze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m Beispiel der Familie Kerner in Ostberl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st es ein Familienfil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s ist ein lustiger, historischer, politischer Familienfil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4062240" cy="465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s Land war geteilt – in Westdeutschland und Ostdeutschl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48320" y="1066320"/>
            <a:ext cx="4062240" cy="45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ch die Hauptstadt Berlin war geteilt – in Westberlin und Ostberl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deutschland_geteilt2" descr=""/>
          <p:cNvPicPr/>
          <p:nvPr/>
        </p:nvPicPr>
        <p:blipFill>
          <a:blip r:embed="rId1"/>
          <a:stretch/>
        </p:blipFill>
        <p:spPr>
          <a:xfrm>
            <a:off x="838080" y="217008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100" name="Ostberlin%20westberlin" descr=""/>
          <p:cNvPicPr/>
          <p:nvPr/>
        </p:nvPicPr>
        <p:blipFill>
          <a:blip r:embed="rId2"/>
          <a:stretch/>
        </p:blipFill>
        <p:spPr>
          <a:xfrm>
            <a:off x="4952880" y="2252520"/>
            <a:ext cx="3581640" cy="307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utschland im Jahre 1989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49280" y="2439720"/>
            <a:ext cx="4062240" cy="40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= Bundesrepublik Deutschland (BR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stdeutschland hatte ein demokratisches kapital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4160" y="2438280"/>
            <a:ext cx="4062240" cy="39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= Deutsche Demokratische Republik (DD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tdeutschland hatte ein undemokratisches kommunistisches Syst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89 gab es politische Probleme in den kommunistischen Ländern in Europa – auch in Ost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 gab viele Demonstrationen und die ersten freien Wahlen seit 19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November 1989: Der Fall der Mauer in Berlin und des Eisernen Vorhangs in Deutschlan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Flagge%20Westdeutschland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1752840" cy="1168560"/>
          </a:xfrm>
          <a:prstGeom prst="rect">
            <a:avLst/>
          </a:prstGeom>
          <a:ln w="0">
            <a:noFill/>
          </a:ln>
        </p:spPr>
      </p:pic>
      <p:pic>
        <p:nvPicPr>
          <p:cNvPr id="106" name="Flagge%20Ostdeutschalnd" descr=""/>
          <p:cNvPicPr/>
          <p:nvPr/>
        </p:nvPicPr>
        <p:blipFill>
          <a:blip r:embed="rId2"/>
          <a:stretch/>
        </p:blipFill>
        <p:spPr>
          <a:xfrm>
            <a:off x="5562720" y="1066680"/>
            <a:ext cx="205740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771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r Fil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9280" y="1523880"/>
            <a:ext cx="82771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r zeigt das Leben in Ostberlin vor und nach dem Fall der Mau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berlinermauer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048120" cy="1828800"/>
          </a:xfrm>
          <a:prstGeom prst="rect">
            <a:avLst/>
          </a:prstGeom>
          <a:ln w="0">
            <a:noFill/>
          </a:ln>
        </p:spPr>
      </p:pic>
      <p:pic>
        <p:nvPicPr>
          <p:cNvPr id="111" name="Brandenburger%20Tor%20mit%20Mauer" descr=""/>
          <p:cNvPicPr/>
          <p:nvPr/>
        </p:nvPicPr>
        <p:blipFill>
          <a:blip r:embed="rId2"/>
          <a:stretch/>
        </p:blipFill>
        <p:spPr>
          <a:xfrm>
            <a:off x="609480" y="4343400"/>
            <a:ext cx="3086280" cy="2135160"/>
          </a:xfrm>
          <a:prstGeom prst="rect">
            <a:avLst/>
          </a:prstGeom>
          <a:ln w="0">
            <a:noFill/>
          </a:ln>
        </p:spPr>
      </p:pic>
      <p:pic>
        <p:nvPicPr>
          <p:cNvPr id="112" name="Brandenburger%20Tor%20mit%20Leuten%20auf%20Mauer" descr=""/>
          <p:cNvPicPr/>
          <p:nvPr/>
        </p:nvPicPr>
        <p:blipFill>
          <a:blip r:embed="rId3"/>
          <a:stretch/>
        </p:blipFill>
        <p:spPr>
          <a:xfrm>
            <a:off x="4419720" y="4343400"/>
            <a:ext cx="2971800" cy="2133720"/>
          </a:xfrm>
          <a:prstGeom prst="rect">
            <a:avLst/>
          </a:prstGeom>
          <a:ln w="0">
            <a:noFill/>
          </a:ln>
        </p:spPr>
      </p:pic>
      <p:pic>
        <p:nvPicPr>
          <p:cNvPr id="113" name="mauerfall" descr=""/>
          <p:cNvPicPr/>
          <p:nvPr/>
        </p:nvPicPr>
        <p:blipFill>
          <a:blip r:embed="rId4"/>
          <a:stretch/>
        </p:blipFill>
        <p:spPr>
          <a:xfrm>
            <a:off x="4419720" y="2438280"/>
            <a:ext cx="2895480" cy="18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49280" y="1219320"/>
            <a:ext cx="8277120" cy="516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le Leute in Ostdeutschland hatten Probleme mit der neuen Situation in ihrem Lan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1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e hatte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stalgie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ch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deutschland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5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STALG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180px-GDR_shirts" descr="Verkauf von DDR-T-shirts in Berlin 2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2895480"/>
            <a:ext cx="2057400" cy="1622520"/>
          </a:xfrm>
          <a:prstGeom prst="rect">
            <a:avLst/>
          </a:prstGeom>
          <a:ln w="0">
            <a:noFill/>
          </a:ln>
        </p:spPr>
      </p:pic>
      <p:pic>
        <p:nvPicPr>
          <p:cNvPr id="118" name="Ampelmaennchen" descr=""/>
          <p:cNvPicPr/>
          <p:nvPr/>
        </p:nvPicPr>
        <p:blipFill>
          <a:blip r:embed="rId3"/>
          <a:stretch/>
        </p:blipFill>
        <p:spPr>
          <a:xfrm>
            <a:off x="3102120" y="2895480"/>
            <a:ext cx="1150920" cy="1621080"/>
          </a:xfrm>
          <a:prstGeom prst="rect">
            <a:avLst/>
          </a:prstGeom>
          <a:ln w="0">
            <a:noFill/>
          </a:ln>
        </p:spPr>
      </p:pic>
      <p:pic>
        <p:nvPicPr>
          <p:cNvPr id="119" name="Ampelmaennchen%20grün" descr=""/>
          <p:cNvPicPr/>
          <p:nvPr/>
        </p:nvPicPr>
        <p:blipFill>
          <a:blip r:embed="rId4"/>
          <a:stretch/>
        </p:blipFill>
        <p:spPr>
          <a:xfrm>
            <a:off x="4648320" y="2895480"/>
            <a:ext cx="1249200" cy="1622520"/>
          </a:xfrm>
          <a:prstGeom prst="rect">
            <a:avLst/>
          </a:prstGeom>
          <a:ln w="0">
            <a:noFill/>
          </a:ln>
        </p:spPr>
      </p:pic>
      <p:pic>
        <p:nvPicPr>
          <p:cNvPr id="120" name="image" descr=""/>
          <p:cNvPicPr/>
          <p:nvPr/>
        </p:nvPicPr>
        <p:blipFill>
          <a:blip r:embed="rId5"/>
          <a:stretch/>
        </p:blipFill>
        <p:spPr>
          <a:xfrm>
            <a:off x="6477120" y="2895480"/>
            <a:ext cx="1222200" cy="1600200"/>
          </a:xfrm>
          <a:prstGeom prst="rect">
            <a:avLst/>
          </a:prstGeom>
          <a:ln w="0">
            <a:noFill/>
          </a:ln>
        </p:spPr>
      </p:pic>
      <p:pic>
        <p:nvPicPr>
          <p:cNvPr id="121" name="Trabbi" descr=""/>
          <p:cNvPicPr/>
          <p:nvPr/>
        </p:nvPicPr>
        <p:blipFill>
          <a:blip r:embed="rId6"/>
          <a:stretch/>
        </p:blipFill>
        <p:spPr>
          <a:xfrm>
            <a:off x="762120" y="4724280"/>
            <a:ext cx="2057400" cy="1543320"/>
          </a:xfrm>
          <a:prstGeom prst="rect">
            <a:avLst/>
          </a:prstGeom>
          <a:ln w="0">
            <a:noFill/>
          </a:ln>
        </p:spPr>
      </p:pic>
      <p:pic>
        <p:nvPicPr>
          <p:cNvPr id="122" name="trabbireihebeigrenze" descr=""/>
          <p:cNvPicPr/>
          <p:nvPr/>
        </p:nvPicPr>
        <p:blipFill>
          <a:blip r:embed="rId7"/>
          <a:stretch/>
        </p:blipFill>
        <p:spPr>
          <a:xfrm>
            <a:off x="3102120" y="4724280"/>
            <a:ext cx="1274760" cy="1546200"/>
          </a:xfrm>
          <a:prstGeom prst="rect">
            <a:avLst/>
          </a:prstGeom>
          <a:ln w="0">
            <a:noFill/>
          </a:ln>
        </p:spPr>
      </p:pic>
      <p:pic>
        <p:nvPicPr>
          <p:cNvPr id="123" name="trabbi%20storch" descr=""/>
          <p:cNvPicPr/>
          <p:nvPr/>
        </p:nvPicPr>
        <p:blipFill>
          <a:blip r:embed="rId8"/>
          <a:stretch/>
        </p:blipFill>
        <p:spPr>
          <a:xfrm>
            <a:off x="4648320" y="4724280"/>
            <a:ext cx="1662120" cy="154620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6400800" y="47242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reewaldgurk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as Leben in der DD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137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00"/>
                </a:solidFill>
                <a:uFillTx/>
                <a:latin typeface="Arial"/>
              </a:rPr>
              <a:t>Wie war das Leben in der DD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ugendkultur und Jugendorganisation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ise- und Urlaubsmöglichkei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4920" indent="-30492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sandmännchen2" descr=""/>
          <p:cNvPicPr/>
          <p:nvPr/>
        </p:nvPicPr>
        <p:blipFill>
          <a:blip r:embed="rId1"/>
          <a:stretch/>
        </p:blipFill>
        <p:spPr>
          <a:xfrm>
            <a:off x="685800" y="3581280"/>
            <a:ext cx="1554120" cy="1981440"/>
          </a:xfrm>
          <a:prstGeom prst="rect">
            <a:avLst/>
          </a:prstGeom>
          <a:ln w="0">
            <a:noFill/>
          </a:ln>
        </p:spPr>
      </p:pic>
      <p:pic>
        <p:nvPicPr>
          <p:cNvPr id="129" name="Jugendkultur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2292120" cy="1979640"/>
          </a:xfrm>
          <a:prstGeom prst="rect">
            <a:avLst/>
          </a:prstGeom>
          <a:ln w="0">
            <a:noFill/>
          </a:ln>
        </p:spPr>
      </p:pic>
      <p:pic>
        <p:nvPicPr>
          <p:cNvPr id="130" name="urlaub" descr=""/>
          <p:cNvPicPr/>
          <p:nvPr/>
        </p:nvPicPr>
        <p:blipFill>
          <a:blip r:embed="rId3"/>
          <a:stretch/>
        </p:blipFill>
        <p:spPr>
          <a:xfrm>
            <a:off x="4800600" y="3581280"/>
            <a:ext cx="2584440" cy="1984320"/>
          </a:xfrm>
          <a:prstGeom prst="rect">
            <a:avLst/>
          </a:prstGeom>
          <a:ln w="0">
            <a:noFill/>
          </a:ln>
        </p:spPr>
      </p:pic>
      <p:pic>
        <p:nvPicPr>
          <p:cNvPr id="131" name="stasi1" descr=""/>
          <p:cNvPicPr/>
          <p:nvPr/>
        </p:nvPicPr>
        <p:blipFill>
          <a:blip r:embed="rId4"/>
          <a:stretch/>
        </p:blipFill>
        <p:spPr>
          <a:xfrm>
            <a:off x="7467480" y="3581280"/>
            <a:ext cx="126864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7712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indheit und Sch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49280" y="1143000"/>
            <a:ext cx="8277120" cy="523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 – 3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kripp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1,50 M für Essen   ca. 8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 – 6 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indergarte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. 0,35 M für Essen   fast 100% der Kind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geöffnet von 6.00 – 18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mehr als 90% der Frauen waren berufstäti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politische Erziehu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 – 16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hr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lytechnische Oberschule (P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5. Klasse: Russisch als Pflichtf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schichte: Kampf der Arbeiterklas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7. Klasse: Einführung in die sozialistische Produk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atsbürgerkunde (Marxismus-Leninismu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ab 9. Klasse: Wehrunterricht – militärischer Unterric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Schule von 7.00 – 13.00 oder 8.00 – 14.00 U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nachmittags Klasse 1 – 4 im Hort ( = „Schulkindergarten“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533520" y="878040"/>
            <a:ext cx="6248160" cy="0"/>
          </a:xfrm>
          <a:prstGeom prst="line">
            <a:avLst/>
          </a:prstGeom>
          <a:ln w="38160">
            <a:solidFill>
              <a:srgbClr val="63db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5T13:12:37Z</dcterms:created>
  <dc:creator>HD</dc:creator>
  <dc:description/>
  <dc:language>en-US</dc:language>
  <cp:lastModifiedBy>win98_standard</cp:lastModifiedBy>
  <dcterms:modified xsi:type="dcterms:W3CDTF">2006-10-31T17:46:52Z</dcterms:modified>
  <cp:revision>100</cp:revision>
  <dc:subject/>
  <dc:title>Folie 1</dc:title>
</cp:coreProperties>
</file>